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4FD-E054-4542-878E-2B62E738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768-4792-465F-A9A5-28841F1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EAC-CB1C-452B-BE1E-CD57EDCB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2F0-A08E-4F22-B12E-67E2EFFD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8BB1-1C27-4CA2-8680-9C28C6C1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45EF-64AF-45EF-8562-51A6DAE6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3EA7-869E-4845-A658-211F6A85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3F27-09AB-4C44-BD4E-F5361950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7013-4EDE-423A-8F0D-F0C4F29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6014-6BB6-4DB0-B5DC-6EDF777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CC81-34D2-443B-9061-23514C73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D63-E127-432F-B2F5-C337CF2C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20A4-3BBA-4576-9EEE-765552B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99FF-9085-484D-8CDD-4520095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7C51-CE0E-49E5-A2AE-86AC6A5D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B275-ADC7-425B-A631-73D12C79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DA38-1D04-4E33-9E16-3E3260CE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7AE4-3E91-4D58-BCA4-79200427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B60E-6F2D-41A0-8459-CD238A4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3399-F96E-4A77-9A95-75C9AF7A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819A-10F4-497E-9AF9-8EBDDCA5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2C56-592F-4A1C-B484-2CBB99BA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094-1613-4040-B40F-892B296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1131-AD48-451C-83E2-41892545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D291-DB24-4C65-B1C3-DD5F3B5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55D4-DFBE-409E-A29A-4F13A59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F9D9A-1D2A-4C7B-863C-EC45094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DDD1-F72C-4F08-9A51-20C68D1C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A0FF8-D9AC-4C27-AD61-9D770528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FC7C-696C-4646-AEF3-D9194F9B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09C7-B819-4A9C-A1FC-05C279EA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5FFE-AFC0-411E-B225-2A37407C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F211-C2FC-4276-B398-21015C61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2F8-DE9F-4B21-8894-E90EE668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B955-0228-486E-A140-ABEABD3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AA5A-0EB4-48F5-A042-A3E4FBC9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48FF-33D4-4FCA-A9C5-99F735F3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3C2A-96AB-4FF4-B8CB-C5C32C02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7415-A31D-42A0-9F04-91FA427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5A2E-60EE-4394-ACA8-A2CB81F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BD0ED-FB4D-48FC-8791-2DD5224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4803-BB91-4A30-BCB9-0D259878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AA6F-725F-43F9-A6E9-AD985AB8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9D597-35B0-45D6-8BAC-AEF006AF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E47-942E-4AE5-8998-28A5E5E3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52CB-0D1A-4E28-A11F-40AF3228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0F4FA-73AF-4D94-AAF1-638F69C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5AE6A-78DE-4CAA-919F-EED3B3C0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184F-8344-424A-A269-B743831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3BC5-E132-419E-A3FC-C0325EE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6ED2-1CB6-4AB6-B27D-DAF0739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25B4C-0989-48CF-8D0A-780103F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3E76F-86C5-42B2-A109-D7C853D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22398-950C-4267-B203-611B826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D871-D9F4-4DEB-A9EC-0E546599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B2F-3686-4B20-AA3D-45E52315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01AD2-6DE4-423C-98D5-1BE4996C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D7B6-A8C0-4404-BA94-AFE0BC8C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B8A0-2347-4D61-B7CA-CFF59F9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80D2A-4B4C-4714-B7C2-FE9222EC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216AD-68BA-438F-8511-4EED6B8A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6440-338C-48A3-94D9-3859A9E4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4B16-8BB6-44E0-80F5-A520C5F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E276-E1C0-447D-B78C-F6D48EBC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F3721-A5E6-4E34-9019-EB1E4D3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D397-B579-4A69-AD25-74705D5C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29F-4380-447C-80D1-101CE00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BADC6-1FD1-4EF6-AB59-B4D7827B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85032-4B9A-4743-9A73-AFE2A594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3CE2C-D4BC-428A-A4FA-9EC13684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3FA37-A3E2-4B5F-ADB4-FB0D8FCA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E6D8-9583-474B-9821-2ED957E1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17A68-3FFD-4B3C-8945-4DAEE339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44761-E58F-48ED-92EB-40CB3178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8A998-3A26-445A-A6FA-144C13C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22E5-9E7F-4BE2-BC8E-64AD0197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1F60C-3C64-4466-824F-B3BE2A1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392-F718-4036-8F78-DF04AC5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E1865-0D3D-40A1-BAD4-7178DBB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FBAA-4324-43A2-8CFA-DC409E4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11A02-E25D-4036-8EB0-6D7D2254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C4ACE-2B78-4BCC-BD1C-0E0A50A9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8B55-12A6-4465-98AB-44376B31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9056F1-E006-4252-B857-FA66C9F5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B7B1C-B30C-46B2-B5B1-A23063D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7C2F7-C7F4-46B3-A742-67C75E34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E8C5C6-7ABC-45F6-B345-BFDD75AE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2BBF6-0298-4A5F-8F50-F252C05F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756-E386-4430-AACC-91C476F6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6ECE79-D942-4ADE-955C-601A663F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D8C2D-72B5-4A2D-8EAD-EEE1ABE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E2DBF-DFC2-45A8-8DBF-A9A4900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3F29C8-25A8-45AC-96B9-99A1164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3C06B-5D36-45C4-A6E9-D6429D9F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0FA9A-F38B-4102-9D13-73463CFE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E2464-5796-4836-A7B9-3B0B8DDA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19B4-D6C3-4A21-A578-54B6C666FB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612D-95F1-4CA7-B14D-CD6E9CB8C3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61C0-DA18-4DA4-9FFA-302CC9728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8237-9325-4C2A-B0C1-45034F52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BA8-FB26-4406-A845-8CD49DCC4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E557-6B96-4C43-A3F2-2988845E1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7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7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5138-67D0-44F2-A817-7A8B5BE0C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3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3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794-043B-4551-8AEA-0FC2E618F5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5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comida español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imentos en españ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 el desayu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galle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51920" y="4343040"/>
            <a:ext cx="2667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76760" y="4343040"/>
            <a:ext cx="2361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nz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3048120" cy="1981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3049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anque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4572000" y="1828800"/>
            <a:ext cx="3048120" cy="1981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276720" y="4527720"/>
            <a:ext cx="236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45277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41464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2228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97400" y="4222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3657600" y="457200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152280" y="4800600"/>
            <a:ext cx="2743200" cy="14731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6705720" y="4724280"/>
            <a:ext cx="1933560" cy="1524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Para al alumuerzo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124080" cy="1955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7680" y="1251000"/>
            <a:ext cx="26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360" y="125100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1360" y="1174680"/>
            <a:ext cx="29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Hamburguesa con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Butternut Squash French Fries"/>
          <p:cNvPicPr/>
          <p:nvPr/>
        </p:nvPicPr>
        <p:blipFill>
          <a:blip r:embed="rId3"/>
          <a:stretch/>
        </p:blipFill>
        <p:spPr>
          <a:xfrm>
            <a:off x="5486400" y="1600200"/>
            <a:ext cx="3124080" cy="2000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724720" y="109872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apas frit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590560" cy="20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18320" y="41464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iz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3809880" y="4419720"/>
            <a:ext cx="1752840" cy="2057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724200" y="4070520"/>
            <a:ext cx="15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ka-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41600" cy="205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070760" y="3809880"/>
            <a:ext cx="107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6400800"/>
            <a:ext cx="30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o me gusta cua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514600" cy="2070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02840" y="1174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fte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172200" y="114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04080" y="117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244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30360" y="11746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sc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4:57Z</dcterms:created>
  <dc:creator>Evan Lee</dc:creator>
  <dc:description/>
  <dc:language>en-US</dc:language>
  <cp:lastModifiedBy>Evan Lee</cp:lastModifiedBy>
  <dcterms:modified xsi:type="dcterms:W3CDTF">2011-04-14T15:05:15Z</dcterms:modified>
  <cp:revision>6</cp:revision>
  <dc:subject/>
  <dc:title>comida española</dc:title>
</cp:coreProperties>
</file>